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7A82-2158-490C-981F-834EB119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7E2A-558F-47D0-9142-AA350965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4503-11B0-4076-AB46-6F2F91FE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0B60-8A36-45E9-BE44-97D3351DA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BFEF-68DF-4A0E-88A8-1D8985AC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093B-90D4-43C3-AADD-3A2742E8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9FCA-4BAC-40CE-9BBD-DD5E6D95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282B-71EF-4199-B7A6-6B180D58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95C4-866C-424E-95AC-8B77F6B2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CE40-D1E9-4901-BABD-2D4158A0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7208-0218-42A9-9E3C-81603CAB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7D05-E151-4CFC-806C-A7010ACC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EA7D-3747-4903-917E-98F9984EE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zus.gov.rs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11. недељ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АЛИДНОСТ, КЛИНИЧКИ ЗНАЧАЈ И ПРИМЕНЉИВОСТ СМЕРНИЦА (ВОДИЧА)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ДОБРЕ ПРАКСЕ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препоруке у смерницама валидн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су све могућности при одлучивању и сви могући исходи узети у обзи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су докази за сваку одлуку идентификова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валидирани и комбиновани на разуман и јасан начи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је оцена пацијената за последице појединих одлу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укључујући доброби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ризике и трошков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узета у обзи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су смернице отпорне на клинички могуће варијације у пракс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валидне смернице клинички корисн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значајн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смернице дају могућност за значајно побољшање квалитета пракс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а ли постоје велике варијације у постојећој пракс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Да ли смернице садрже нове доказе који би могли имати важан утицај на поступање са пацијенто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ће смернице утицати на поступак са врло великим бројем пацијена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или са тешким пацијенти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или са пацијентима чије лечење је веома скуп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тако да мале промене у пракси имају велики утицај на исход третмана или његову цен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е смернице могу применити у нашој пракс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Какве препреке постоје за примену смерниц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се могу превазић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ће наше колеге сарађива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постоје образов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административ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и економски услови потребни за примену смерниц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Да ли је смернице издало тело са стручним ауторитетом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Да ли је неко од угледних колега већ применио смерниц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Да ли су информације из свих извора конзистентн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Да ли постоји могућност индивидуалних дискусија о примени смерница са здравственим власти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Да ли је формат смерница погодан за употреб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Да ли се смернице могу применити у циљној групи клиничар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без потребе за посебном сарадњом спољ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Да ли не постоји сукоб са политиком здравственог фонд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са политиком здравствених власт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са очекивањима пацијента и са очекивањима заједниц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Националне смернице у Србиј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ступне су на веб страници Агенције за акредитацију здравствених устано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azus.gov.rs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ckett, David L. et al.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idence-Based Medicine: How to Practice and Teach EBM. 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ed. New York: Churchill Livingstone, 2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raus SE, Richardson WS, Glasziou P, Haynes RB. Evidence-based Medicine. 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edition, Elsevier, 200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4-07-12T17:29:59Z</dcterms:modified>
  <cp:revision>57</cp:revision>
  <dc:subject/>
  <dc:title>Slide 1</dc:title>
</cp:coreProperties>
</file>